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2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E8C-514E-4FEE-86C2-DB23B86AC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7543-FAF0-469E-BBDB-5BF5ED9E4C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E9E0-B11B-4052-B22E-821276879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21F-9687-42A0-92B4-7AF4984183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7D0B-526B-4C54-B167-9D49F3C82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862-35AF-4B25-B872-C915E266B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E62-4866-4938-BF9D-3D0C069F60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312-9F21-4289-B404-549E5D8D43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3A89-97EF-4CF4-AE7E-751DF5BA4D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80FB-70BC-451F-B137-22B0DC3DDC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441-CADB-4854-856B-AC218740A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0E3-0066-4902-AD42-1CED0F718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531F-9DAB-4976-89BE-036DD746D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BE1-2CE8-45FC-AA47-8E666E3A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A90-A3DE-4670-8D61-742FDB1E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721-234B-420E-93B6-DCF51905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F18-54B6-4760-AFA9-F4C71C7D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B6D2-70CD-4C6C-902E-449550C8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6F9-9DA2-48E8-9859-452CE76F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8BD9-BDA9-45EE-ABD8-53552B07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96E-6299-435D-97FB-6E35BEFC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75D8-0EE4-49EB-B2C1-EF2957B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2D6-5423-4589-BF4E-292AC464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7ABD-FA45-4CAA-B7DD-B6E5095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E67-0A00-4B3B-9C9F-59D170C9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EF7D-5C11-499B-84E9-084A2AA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45E-D938-411B-9148-8F9BFA4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BB62-FFE6-4183-BF96-B1CAAF9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19B-1B9B-4E65-B193-E8F4780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30D1-7912-45AE-A142-C742219B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BAB6-AF92-408F-BC2D-9F867D48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465E-EB6B-4150-A2BB-C32905F2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2AF4-09F5-4F51-8959-C5C7A694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2828-4EF8-49E2-A230-AD1DB14A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F2A1-62F5-4250-91FD-EB80117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6B6-B125-49CD-8A12-61CDDDC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AAC3-0B71-47B3-8F17-8F2AF80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E9DE-A081-4673-97A5-8796122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0AA4-C7FC-4CF1-87E9-2BA77F6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F51C-2D4B-4651-98D2-D465E0E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4D4E-4B5B-4F96-8102-70C5543E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3859-16E9-4E05-8807-C1569A75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3D26-1313-4EE3-BCCB-CF6357BD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DF55-C3C4-414F-8BF5-B56F73A1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7360-AE3E-451C-BA69-EEA0EBA6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06E5-30E5-4F69-ADE5-70AD46B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CB9-F36F-4BA6-ABF9-785CFF1B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6DAE-D818-44D7-81BE-FBE0760B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9CC5-B7AD-405A-A6EE-FFFE47CD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24F1-0239-42B6-9480-99430C2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69DB-E1B2-410F-8E9F-4C8EAF9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9463-0F76-4104-950B-C625B14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A0FD-C2DA-4465-B139-90354FC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F2EC-F8AF-47A9-8E85-708C2FF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9691-8BBA-482B-9E35-2FA35F37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4306-344B-4BA6-A45A-1C323899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9344E-CCE5-43A3-BF12-23C8CDE0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3EF-7694-4B9A-B412-FE30949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B8AD-1DE9-47A4-9901-17A0041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2948-3991-4981-864B-21743AE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D863-D849-4315-A290-F3C1A600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9B38-905B-4D39-8B17-B9F33AE7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5D013-9476-4765-8992-1BC9DCC3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0413-AEFC-45EC-8D2C-6F169B4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F1C0-9B40-4CD4-88BD-0952FC4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1DB8-B6B2-494E-B2BE-5EC45CD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0C7F-0F21-4F31-B7D4-9DA7483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0643-8B75-4DC5-A8A1-6BAAEA48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A75-82DB-4451-9B2D-180B54A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766E-2690-4FF9-AA59-9D02D336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79421-ACE6-4B54-B603-0555DECB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C119-8BDE-41CF-8ED1-0E169DF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67DF-F2E7-4301-B08D-1AD68AD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330F-E0FB-4FE2-A1A2-AF2EDD5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6F470-72DE-49DE-B240-AFD20EDE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F417-646A-4021-987B-D3AC327E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6D43-F423-4A7E-B6CC-26FC6886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47F0-951F-4F60-872D-5E855FF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1D1B-65EE-4697-912D-0EBDEA9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360-B902-4BC5-A0B0-0F0CA54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E9DA4-A705-427A-AE98-760FC0B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96019-2BC2-4673-BC67-F13ACAE2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CE5F-FEE8-44CE-9511-8172338F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0D3-FF1D-4D0D-AD10-EEE5DC5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47B-E59D-4CA8-A7EA-3B6F2658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BA8D-3111-4149-B31D-6E5703EF6C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E6F-550E-4AB3-837D-15B60EB322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2EF-5BE4-4F46-A8AD-1FFF119EA1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B3D4-4BD2-4D53-B747-DEE1B59B51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318-6F1F-479D-89C6-5A508E3FDE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F135-F489-4848-8F3D-EEFB9DEE65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1047600"/>
            <a:ext cx="8508960" cy="1487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826920" y="364464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Lucida Sans Unicode"/>
              </a:rPr>
              <a:t>Соблюдая эти простые правила, можно создать презентацию, за которую не придется краснеть…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Прямоугольник 4" descr=""/>
          <p:cNvPicPr/>
          <p:nvPr/>
        </p:nvPicPr>
        <p:blipFill>
          <a:blip r:embed="rId1"/>
          <a:stretch/>
        </p:blipFill>
        <p:spPr>
          <a:xfrm>
            <a:off x="5334120" y="1401840"/>
            <a:ext cx="2919240" cy="67140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5" descr=""/>
          <p:cNvPicPr/>
          <p:nvPr/>
        </p:nvPicPr>
        <p:blipFill>
          <a:blip r:embed="rId2"/>
          <a:stretch/>
        </p:blipFill>
        <p:spPr>
          <a:xfrm>
            <a:off x="695160" y="1401840"/>
            <a:ext cx="3407040" cy="6714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6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Единый стиль оформления (заголовки, переходы слайдов, шрифт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3"/>
          <a:stretch/>
        </p:blipFill>
        <p:spPr>
          <a:xfrm>
            <a:off x="4572000" y="2060640"/>
            <a:ext cx="2303640" cy="17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1" name="Picture 2" descr=""/>
          <p:cNvPicPr/>
          <p:nvPr/>
        </p:nvPicPr>
        <p:blipFill>
          <a:blip r:embed="rId4"/>
          <a:stretch/>
        </p:blipFill>
        <p:spPr>
          <a:xfrm>
            <a:off x="6516720" y="3213000"/>
            <a:ext cx="2473200" cy="18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2" name="Picture 3" descr=""/>
          <p:cNvPicPr/>
          <p:nvPr/>
        </p:nvPicPr>
        <p:blipFill>
          <a:blip r:embed="rId5"/>
          <a:stretch/>
        </p:blipFill>
        <p:spPr>
          <a:xfrm>
            <a:off x="4572000" y="4829040"/>
            <a:ext cx="244800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3" name="Picture 4" descr=""/>
          <p:cNvPicPr/>
          <p:nvPr/>
        </p:nvPicPr>
        <p:blipFill>
          <a:blip r:embed="rId6"/>
          <a:stretch/>
        </p:blipFill>
        <p:spPr>
          <a:xfrm>
            <a:off x="108000" y="1989000"/>
            <a:ext cx="2376360" cy="18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4" name="Picture 5" descr=""/>
          <p:cNvPicPr/>
          <p:nvPr/>
        </p:nvPicPr>
        <p:blipFill>
          <a:blip r:embed="rId7"/>
          <a:stretch/>
        </p:blipFill>
        <p:spPr>
          <a:xfrm>
            <a:off x="2195640" y="3213000"/>
            <a:ext cx="2376360" cy="17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5" name="Picture 6" descr=""/>
          <p:cNvPicPr/>
          <p:nvPr/>
        </p:nvPicPr>
        <p:blipFill>
          <a:blip r:embed="rId8"/>
          <a:stretch/>
        </p:blipFill>
        <p:spPr>
          <a:xfrm>
            <a:off x="179280" y="4843440"/>
            <a:ext cx="2448000" cy="182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Прямоугольник 13" descr=""/>
          <p:cNvPicPr/>
          <p:nvPr/>
        </p:nvPicPr>
        <p:blipFill>
          <a:blip r:embed="rId9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4" descr=""/>
          <p:cNvPicPr/>
          <p:nvPr/>
        </p:nvPicPr>
        <p:blipFill>
          <a:blip r:embed="rId1"/>
          <a:stretch/>
        </p:blipFill>
        <p:spPr>
          <a:xfrm>
            <a:off x="5430960" y="2554200"/>
            <a:ext cx="2719440" cy="66996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5" descr=""/>
          <p:cNvPicPr/>
          <p:nvPr/>
        </p:nvPicPr>
        <p:blipFill>
          <a:blip r:embed="rId2"/>
          <a:stretch/>
        </p:blipFill>
        <p:spPr>
          <a:xfrm>
            <a:off x="652320" y="2554200"/>
            <a:ext cx="3200400" cy="6699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6"/>
          <p:cNvSpPr/>
          <p:nvPr/>
        </p:nvSpPr>
        <p:spPr>
          <a:xfrm>
            <a:off x="250920" y="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Шрифт текста не должен быть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курсив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сположение информации: горизонтальное, важная – по центр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таемый текст (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rdana, Tahoma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), не более 15 строк, для заголовков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24 размер шрифта, а для текста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1" name="Picture 3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374508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2" name="Прямоугольник 15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Прямоугольник 4" descr=""/>
          <p:cNvPicPr/>
          <p:nvPr/>
        </p:nvPicPr>
        <p:blipFill>
          <a:blip r:embed="rId1"/>
          <a:stretch/>
        </p:blipFill>
        <p:spPr>
          <a:xfrm>
            <a:off x="5430960" y="1255680"/>
            <a:ext cx="271944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5" descr=""/>
          <p:cNvPicPr/>
          <p:nvPr/>
        </p:nvPicPr>
        <p:blipFill>
          <a:blip r:embed="rId2"/>
          <a:stretch/>
        </p:blipFill>
        <p:spPr>
          <a:xfrm>
            <a:off x="652320" y="1255680"/>
            <a:ext cx="3200400" cy="67644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6"/>
          <p:cNvSpPr/>
          <p:nvPr/>
        </p:nvSpPr>
        <p:spPr>
          <a:xfrm>
            <a:off x="250920" y="333360"/>
            <a:ext cx="8642160" cy="5205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е более трех цветов (5 оттенков) на слайд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403200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7" name="Picture 2" descr=""/>
          <p:cNvPicPr/>
          <p:nvPr/>
        </p:nvPicPr>
        <p:blipFill>
          <a:blip r:embed="rId4"/>
          <a:stretch/>
        </p:blipFill>
        <p:spPr>
          <a:xfrm>
            <a:off x="371520" y="2421000"/>
            <a:ext cx="393696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8" name="Прямоугольник 10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7892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чка в заголовках не ставится!!!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чественные графические объекты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чественные видео- и аудио фрагмен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авданная аним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более трех цветов (5 оттенков) на слайде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диный стиль оформления (заголовки, переходы слайдов, шрифт)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вет фона и текста должен быть контрастным (лучше «черное» на «белом»)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Rectangle 2" descr=""/>
          <p:cNvPicPr/>
          <p:nvPr/>
        </p:nvPicPr>
        <p:blipFill>
          <a:blip r:embed="rId6"/>
          <a:stretch/>
        </p:blipFill>
        <p:spPr>
          <a:xfrm>
            <a:off x="19080" y="115920"/>
            <a:ext cx="7942320" cy="7794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7" descr=""/>
          <p:cNvPicPr/>
          <p:nvPr/>
        </p:nvPicPr>
        <p:blipFill>
          <a:blip r:embed="rId7"/>
          <a:stretch/>
        </p:blipFill>
        <p:spPr>
          <a:xfrm>
            <a:off x="7845480" y="6400800"/>
            <a:ext cx="1427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Шрифт текста не должен быть 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курсивом </a:t>
            </a:r>
            <a:r>
              <a:rPr b="0" i="1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Читаемый текст (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erdana, Tahoma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), не более 15 строк, для заголовков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4 размер шрифта, а для текста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in-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8 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Расположение информации: горизонтальное, важная – по центру 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дписи графических объектов: диаграмм, рисунков, фотографий, портретов и т.д. 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Рисунки с отличительным фоном лучше делать в рамку 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добная навигация (гиперссылки, управляющие кнопки) Пример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9" name="Rectangle 2" descr=""/>
          <p:cNvPicPr/>
          <p:nvPr/>
        </p:nvPicPr>
        <p:blipFill>
          <a:blip r:embed="rId5"/>
          <a:stretch/>
        </p:blipFill>
        <p:spPr>
          <a:xfrm>
            <a:off x="19080" y="115920"/>
            <a:ext cx="7942320" cy="77940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0" descr=""/>
          <p:cNvPicPr/>
          <p:nvPr/>
        </p:nvPicPr>
        <p:blipFill>
          <a:blip r:embed="rId6"/>
          <a:stretch/>
        </p:blipFill>
        <p:spPr>
          <a:xfrm>
            <a:off x="7912080" y="6400800"/>
            <a:ext cx="13413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83076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830760" cy="287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3" name="Прямоугольник 4" descr=""/>
          <p:cNvPicPr/>
          <p:nvPr/>
        </p:nvPicPr>
        <p:blipFill>
          <a:blip r:embed="rId3"/>
          <a:stretch/>
        </p:blipFill>
        <p:spPr>
          <a:xfrm>
            <a:off x="5456160" y="1689120"/>
            <a:ext cx="2718000" cy="6760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5" descr=""/>
          <p:cNvPicPr/>
          <p:nvPr/>
        </p:nvPicPr>
        <p:blipFill>
          <a:blip r:embed="rId4"/>
          <a:stretch/>
        </p:blipFill>
        <p:spPr>
          <a:xfrm>
            <a:off x="774720" y="1682640"/>
            <a:ext cx="3200400" cy="66996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367560" y="333360"/>
            <a:ext cx="8408880" cy="703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Точка в заголовках не ставится!!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6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13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Прямоугольник 4" descr=""/>
          <p:cNvPicPr/>
          <p:nvPr/>
        </p:nvPicPr>
        <p:blipFill>
          <a:blip r:embed="rId1"/>
          <a:stretch/>
        </p:blipFill>
        <p:spPr>
          <a:xfrm>
            <a:off x="5456160" y="1689120"/>
            <a:ext cx="2718000" cy="6760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1689120"/>
            <a:ext cx="3200400" cy="6760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6"/>
          <p:cNvSpPr/>
          <p:nvPr/>
        </p:nvSpPr>
        <p:spPr>
          <a:xfrm>
            <a:off x="-138960" y="333360"/>
            <a:ext cx="9422280" cy="703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чественные графические объекты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816360" cy="28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1" name="Picture 2" descr=""/>
          <p:cNvPicPr/>
          <p:nvPr/>
        </p:nvPicPr>
        <p:blipFill>
          <a:blip r:embed="rId4"/>
          <a:stretch/>
        </p:blipFill>
        <p:spPr>
          <a:xfrm>
            <a:off x="4932360" y="2708280"/>
            <a:ext cx="382896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2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4" descr=""/>
          <p:cNvPicPr/>
          <p:nvPr/>
        </p:nvPicPr>
        <p:blipFill>
          <a:blip r:embed="rId1"/>
          <a:stretch/>
        </p:blipFill>
        <p:spPr>
          <a:xfrm>
            <a:off x="5357880" y="1689120"/>
            <a:ext cx="2921040" cy="6760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5" descr=""/>
          <p:cNvPicPr/>
          <p:nvPr/>
        </p:nvPicPr>
        <p:blipFill>
          <a:blip r:embed="rId2"/>
          <a:stretch/>
        </p:blipFill>
        <p:spPr>
          <a:xfrm>
            <a:off x="669960" y="1689120"/>
            <a:ext cx="3408480" cy="67608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6"/>
          <p:cNvSpPr/>
          <p:nvPr/>
        </p:nvSpPr>
        <p:spPr>
          <a:xfrm>
            <a:off x="216000" y="333360"/>
            <a:ext cx="8712000" cy="1312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исунки с отличительным фоном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лучше делать в рамку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82932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7" name="Picture 2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3816360" cy="284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8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4" descr=""/>
          <p:cNvPicPr/>
          <p:nvPr/>
        </p:nvPicPr>
        <p:blipFill>
          <a:blip r:embed="rId1"/>
          <a:stretch/>
        </p:blipFill>
        <p:spPr>
          <a:xfrm>
            <a:off x="5456160" y="1689120"/>
            <a:ext cx="2718000" cy="67608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1689120"/>
            <a:ext cx="3200400" cy="6760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6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дписи графических объектов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иаграмм, рисунков, фотографий…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3"/>
          <a:stretch/>
        </p:blipFill>
        <p:spPr>
          <a:xfrm>
            <a:off x="4932360" y="2781360"/>
            <a:ext cx="38289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Picture 2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3887640" cy="29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4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4" descr=""/>
          <p:cNvPicPr/>
          <p:nvPr/>
        </p:nvPicPr>
        <p:blipFill>
          <a:blip r:embed="rId1"/>
          <a:stretch/>
        </p:blipFill>
        <p:spPr>
          <a:xfrm>
            <a:off x="5357880" y="1689120"/>
            <a:ext cx="2921040" cy="67608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5" descr=""/>
          <p:cNvPicPr/>
          <p:nvPr/>
        </p:nvPicPr>
        <p:blipFill>
          <a:blip r:embed="rId2"/>
          <a:stretch/>
        </p:blipFill>
        <p:spPr>
          <a:xfrm>
            <a:off x="669960" y="1689120"/>
            <a:ext cx="3408480" cy="67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6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Удобная навигация (гиперссылки, управляющие кнопки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8764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4788000" y="2924280"/>
            <a:ext cx="3862440" cy="28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0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4" descr=""/>
          <p:cNvPicPr/>
          <p:nvPr/>
        </p:nvPicPr>
        <p:blipFill>
          <a:blip r:embed="rId1"/>
          <a:stretch/>
        </p:blipFill>
        <p:spPr>
          <a:xfrm>
            <a:off x="5357880" y="1689120"/>
            <a:ext cx="2921040" cy="67608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5" descr=""/>
          <p:cNvPicPr/>
          <p:nvPr/>
        </p:nvPicPr>
        <p:blipFill>
          <a:blip r:embed="rId2"/>
          <a:stretch/>
        </p:blipFill>
        <p:spPr>
          <a:xfrm>
            <a:off x="669960" y="1689120"/>
            <a:ext cx="3408480" cy="676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6"/>
          <p:cNvSpPr/>
          <p:nvPr/>
        </p:nvSpPr>
        <p:spPr>
          <a:xfrm>
            <a:off x="250920" y="33336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Цвет фона и текста должен быть контрастным (лучше «черное» на «белом»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844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5" name="Picture 3" descr=""/>
          <p:cNvPicPr/>
          <p:nvPr/>
        </p:nvPicPr>
        <p:blipFill>
          <a:blip r:embed="rId4"/>
          <a:stretch/>
        </p:blipFill>
        <p:spPr>
          <a:xfrm>
            <a:off x="4788000" y="2924280"/>
            <a:ext cx="3916440" cy="28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Прямоугольник 9" descr=""/>
          <p:cNvPicPr/>
          <p:nvPr/>
        </p:nvPicPr>
        <p:blipFill>
          <a:blip r:embed="rId5"/>
          <a:stretch/>
        </p:blipFill>
        <p:spPr>
          <a:xfrm>
            <a:off x="7912080" y="6400800"/>
            <a:ext cx="1347840" cy="7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7:03:35Z</dcterms:created>
  <dc:creator>DNA7 X64</dc:creator>
  <dc:description/>
  <dc:language>en-US</dc:language>
  <cp:lastModifiedBy>DNA7 X64</cp:lastModifiedBy>
  <dcterms:modified xsi:type="dcterms:W3CDTF">2011-04-30T17:14:08Z</dcterms:modified>
  <cp:revision>1</cp:revision>
  <dc:subject/>
  <dc:title>Качественная презентация</dc:title>
</cp:coreProperties>
</file>